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06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706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E9BA81-EDE2-4A65-9289-5F2E5DE5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27600" y="877104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C78195-1EF7-4676-A389-CEB1FA60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560520" y="587520"/>
            <a:ext cx="3122640" cy="234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4440" y="3184560"/>
            <a:ext cx="3249720" cy="58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4D2-224A-482D-93AE-B3F8BC49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51B-6442-461C-A316-88A5E49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CCD-4AC8-46FD-A1DB-AEFC3826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8F6-C41C-44ED-8A73-A2A66B78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1BC-8FDB-4DEB-8E25-32006AF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1BA-45BF-42D8-895C-D5D74E57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8A7-21BC-4453-B3C7-7DB04930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23D-DC3C-4832-ACE4-45E21F0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E78-DDCA-44EF-BFA1-F22A047F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931-9BBA-4D41-9ED1-4463264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21D-04E2-49EC-A462-2B794AC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E05-99E5-4458-81DC-13EFF374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160-3E11-4199-AE45-866931CB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pylusd.k12.ca.us/glk/jlaurich/TransitionWords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tepUpToWriting%20Glowing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toplightAnimated"/>
          <p:cNvPicPr/>
          <p:nvPr/>
        </p:nvPicPr>
        <p:blipFill>
          <a:blip r:embed="rId2"/>
          <a:stretch/>
        </p:blipFill>
        <p:spPr>
          <a:xfrm>
            <a:off x="155520" y="46080"/>
            <a:ext cx="1062000" cy="269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toplightAnimated"/>
          <p:cNvPicPr/>
          <p:nvPr/>
        </p:nvPicPr>
        <p:blipFill>
          <a:blip r:embed="rId3"/>
          <a:stretch/>
        </p:blipFill>
        <p:spPr>
          <a:xfrm>
            <a:off x="7772400" y="0"/>
            <a:ext cx="1143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Blue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irst,... First of all,... In addition,... Also,...) to start these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upport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x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ffectiv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a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tchy senten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nc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ackground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y favorite animal is the Giant Panda for two reasons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First of all, 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like the panda because it looks so cute and cuddly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anda's black and white body colors are simple, make it stand out, and look soft. Its sad looking face makes me want to hug it and make it happy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 addition, 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m fond of the giant panda because it is endangered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 all should try to preserve the animal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, like the panda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that are in danger of extinctio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Clearly,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e Giant Panda is the animal I like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Introduction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A catchy sentence to get the reader’s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ackgrou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ansition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cc33"/>
                </a:solidFill>
                <a:uFillTx/>
                <a:latin typeface="Arial"/>
              </a:rPr>
              <a:t>Conclus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n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is leaves the reader knowing you are a great writer and you have proven you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ronged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your three subtopics in your thesi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Writing an Occasion/ Positio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sentence is a type of a complex sentence- An occasion / position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hould include two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casion = Reason for wri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= What you plan to prove or expl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Key Words f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ccasion Position Thesis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great words to start your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hesis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5120" y="2666880"/>
            <a:ext cx="204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oon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659400" y="2666880"/>
            <a:ext cx="227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402600" y="2743200"/>
            <a:ext cx="190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Occasion/ Position The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opic Sent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l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occasion part of sentence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tal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position part of senten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Unless you are willing to take risks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you may not reach your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fter I tried out for band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I learned that there were several things that I had to do for a good performance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ote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a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plain or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nk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se Onomatopo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cribe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Example Intro 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Swoosh!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I love the sound of the ball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tickling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nylon netting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y favorite hobby is attending Boston Celtics games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because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y have a great team this year, I am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afforde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opportunit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ravel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down town Boston, and I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am abl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spend quality time with my Dad.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I’m even more excited about the start of this season than ever before, because of the Celtics’ recent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cquisitions.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ran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reasons, details, or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writer and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next 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without ju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 of great TRANSITION words to help the reader flow into and understand the next ide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- Second  Thir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econ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exampl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exampl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at night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971800" y="1600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943600" y="15238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76720" y="22096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good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better wa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best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all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ong with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additi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qually importan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en spring c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156360" y="2209680"/>
            <a:ext cx="29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of all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st to be considere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of all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nal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way tha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addition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Missing Transi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n became a famous author after her nov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Joy Luck Cl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kyrocketed up the bestseller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ther things to note about Tan as well. Amy Tan also participates in the satirical garage band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ock Bottom Remainder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Stephen King and Dave Ba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Effective Transition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n became a famous author after her nov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Joy Luck Cl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kyrocketed up the bestseller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her fiction is well known, her work with the satirical garage ban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ock Bottom Remainder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s far less pub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99ff"/>
                </a:solidFill>
                <a:uFillTx/>
                <a:latin typeface="Arial"/>
              </a:rPr>
              <a:t>Elements of a Transition 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Transition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Complex Sent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rst Sub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econd Sub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Thes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Beowulf is a True H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eowulf is str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ulls off Grendel’s 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TRAN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eowulf is resource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e kills Grendel’s mother with a sword he f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owulf is st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lls off Grendel’s 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ransi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lthough Beowulf is incredibly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trong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,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it is h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sourcefulness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that saves his life in the end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nd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akes him a time less hero.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owulf is resourc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kills Grendel’s mother with a sword he f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Each Body Paragraph Should follow the same basic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cc33"/>
                </a:solidFill>
                <a:uFillTx/>
                <a:latin typeface="Arial"/>
              </a:rPr>
              <a:t>Conclus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n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is leaves the reader knowing you are a great writer and you have proven you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tepupstopsign"/>
          <p:cNvPicPr/>
          <p:nvPr/>
        </p:nvPicPr>
        <p:blipFill>
          <a:blip r:embed="rId1"/>
          <a:srcRect l="0" t="0" r="3179" b="0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440" y="16560"/>
            <a:ext cx="24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aragraph Form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68544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o support your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to next top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tepupstopsign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590920" y="1447920"/>
            <a:ext cx="5790600" cy="914400"/>
            <a:chOff x="2590920" y="1447920"/>
            <a:chExt cx="5790600" cy="914400"/>
          </a:xfrm>
        </p:grpSpPr>
        <p:sp>
          <p:nvSpPr>
            <p:cNvPr id="64" name="Rectangle 3"/>
            <p:cNvSpPr/>
            <p:nvPr/>
          </p:nvSpPr>
          <p:spPr>
            <a:xfrm>
              <a:off x="3354480" y="1447920"/>
              <a:ext cx="502704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4"/>
            <p:cNvSpPr/>
            <p:nvPr/>
          </p:nvSpPr>
          <p:spPr>
            <a:xfrm>
              <a:off x="2590920" y="1505160"/>
              <a:ext cx="509040" cy="456840"/>
            </a:xfrm>
            <a:prstGeom prst="ellipse">
              <a:avLst/>
            </a:prstGeom>
            <a:solidFill>
              <a:srgbClr val="20ae34"/>
            </a:solidFill>
            <a:ln w="0">
              <a:noFill/>
            </a:ln>
            <a:effectLst>
              <a:outerShdw dist="153753" dir="2700000" blurRad="0" rotWithShape="0">
                <a:srgbClr val="1368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>
              <a:off x="3354480" y="1505160"/>
              <a:ext cx="47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de5d"/>
                  </a:solidFill>
                  <a:latin typeface="Arial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2590920" y="2362320"/>
            <a:ext cx="5790600" cy="1217880"/>
            <a:chOff x="2590920" y="2362320"/>
            <a:chExt cx="5790600" cy="1217880"/>
          </a:xfrm>
        </p:grpSpPr>
        <p:sp>
          <p:nvSpPr>
            <p:cNvPr id="68" name="Rectangle 7"/>
            <p:cNvSpPr/>
            <p:nvPr/>
          </p:nvSpPr>
          <p:spPr>
            <a:xfrm>
              <a:off x="3354480" y="2362320"/>
              <a:ext cx="5027040" cy="1023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2590920" y="2410920"/>
              <a:ext cx="509040" cy="38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153753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354480" y="2410920"/>
              <a:ext cx="48362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Reason/Detail/F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2590920" y="3352680"/>
            <a:ext cx="5790600" cy="990720"/>
            <a:chOff x="2590920" y="3352680"/>
            <a:chExt cx="5790600" cy="990720"/>
          </a:xfrm>
        </p:grpSpPr>
        <p:sp>
          <p:nvSpPr>
            <p:cNvPr id="72" name="Rectangle 11"/>
            <p:cNvSpPr/>
            <p:nvPr/>
          </p:nvSpPr>
          <p:spPr>
            <a:xfrm>
              <a:off x="3354480" y="3352680"/>
              <a:ext cx="5027040" cy="990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2"/>
            <p:cNvSpPr/>
            <p:nvPr/>
          </p:nvSpPr>
          <p:spPr>
            <a:xfrm>
              <a:off x="2590920" y="3414600"/>
              <a:ext cx="509040" cy="495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3354480" y="3375720"/>
              <a:ext cx="46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pl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2590920" y="4267080"/>
            <a:ext cx="5790600" cy="1219320"/>
            <a:chOff x="2590920" y="4267080"/>
            <a:chExt cx="5790600" cy="1219320"/>
          </a:xfrm>
        </p:grpSpPr>
        <p:sp>
          <p:nvSpPr>
            <p:cNvPr id="76" name="Rectangle 15"/>
            <p:cNvSpPr/>
            <p:nvPr/>
          </p:nvSpPr>
          <p:spPr>
            <a:xfrm>
              <a:off x="3354480" y="4267080"/>
              <a:ext cx="5027040" cy="1041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6"/>
            <p:cNvSpPr/>
            <p:nvPr/>
          </p:nvSpPr>
          <p:spPr>
            <a:xfrm>
              <a:off x="2590920" y="4331880"/>
              <a:ext cx="509040" cy="520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7"/>
            <p:cNvSpPr/>
            <p:nvPr/>
          </p:nvSpPr>
          <p:spPr>
            <a:xfrm>
              <a:off x="3354480" y="4317120"/>
              <a:ext cx="4772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pl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2743200" y="5257800"/>
            <a:ext cx="5638320" cy="1229040"/>
            <a:chOff x="2743200" y="5257800"/>
            <a:chExt cx="5638320" cy="1229040"/>
          </a:xfrm>
        </p:grpSpPr>
        <p:sp>
          <p:nvSpPr>
            <p:cNvPr id="80" name="Rectangle 19"/>
            <p:cNvSpPr/>
            <p:nvPr/>
          </p:nvSpPr>
          <p:spPr>
            <a:xfrm>
              <a:off x="3362760" y="5257800"/>
              <a:ext cx="5018760" cy="978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0"/>
            <p:cNvSpPr/>
            <p:nvPr/>
          </p:nvSpPr>
          <p:spPr>
            <a:xfrm>
              <a:off x="2743200" y="5257800"/>
              <a:ext cx="495720" cy="488880"/>
            </a:xfrm>
            <a:prstGeom prst="ellipse">
              <a:avLst/>
            </a:prstGeom>
            <a:solidFill>
              <a:srgbClr val="20ae34"/>
            </a:solidFill>
            <a:ln w="0">
              <a:noFill/>
            </a:ln>
            <a:effectLst>
              <a:outerShdw dist="153753" dir="2700000" blurRad="0" rotWithShape="0">
                <a:srgbClr val="1368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3362760" y="5317560"/>
              <a:ext cx="2168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de5d"/>
                  </a:solidFill>
                  <a:latin typeface="Arial"/>
                </a:rPr>
                <a:t>Conclu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6" descr="traf-7"/>
          <p:cNvPicPr/>
          <p:nvPr/>
        </p:nvPicPr>
        <p:blipFill>
          <a:blip r:embed="rId1"/>
          <a:stretch/>
        </p:blipFill>
        <p:spPr>
          <a:xfrm>
            <a:off x="457200" y="1523880"/>
            <a:ext cx="1752480" cy="449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7"/>
          <p:cNvSpPr/>
          <p:nvPr/>
        </p:nvSpPr>
        <p:spPr>
          <a:xfrm>
            <a:off x="228600" y="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736640" y="4176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04920" y="152280"/>
            <a:ext cx="85341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dy Paragraph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Body Paragraph Gr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Sentence: The main topic of the composition is st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Thes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x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My favorite animal is the Giant Panda for two reason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stepupstopsign"/>
          <p:cNvPicPr/>
          <p:nvPr/>
        </p:nvPicPr>
        <p:blipFill>
          <a:blip r:embed="rId1"/>
          <a:srcRect l="0" t="0" r="5311" b="82616"/>
          <a:stretch/>
        </p:blipFill>
        <p:spPr>
          <a:xfrm>
            <a:off x="1295280" y="2590920"/>
            <a:ext cx="678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ody Paragraph Ye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/Detail/Fact : Give the reader a main reason, detail or fact that relates to and supports the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of all,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he panda because it looks so cute and cudd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tepupstopsign"/>
          <p:cNvPicPr/>
          <p:nvPr/>
        </p:nvPicPr>
        <p:blipFill>
          <a:blip r:embed="rId1"/>
          <a:srcRect l="7637" t="25554" r="11223" b="60105"/>
          <a:stretch/>
        </p:blipFill>
        <p:spPr>
          <a:xfrm>
            <a:off x="1676520" y="2514600"/>
            <a:ext cx="6476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ody Paragraph R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/Example: Give an example for the statement made in the reason/detail/fa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panda's black and white body colors are simple, make it stand out, and look soft. Its sad looking face makes me want to hug it and make it happ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tepupstopsign"/>
          <p:cNvPicPr/>
          <p:nvPr/>
        </p:nvPicPr>
        <p:blipFill>
          <a:blip r:embed="rId1"/>
          <a:srcRect l="6842" t="46668" r="10021" b="38172"/>
          <a:stretch/>
        </p:blipFill>
        <p:spPr>
          <a:xfrm>
            <a:off x="2057400" y="2666880"/>
            <a:ext cx="5562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Body Paragraph Greens…A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ding Sentence: The topic is restated to remind the reader what the composition was about. (Begin this sentence with Clearly,... All in all,...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GO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epupstopsign"/>
          <p:cNvPicPr/>
          <p:nvPr/>
        </p:nvPicPr>
        <p:blipFill>
          <a:blip r:embed="rId1"/>
          <a:srcRect l="0" t="0" r="5311" b="82616"/>
          <a:stretch/>
        </p:blipFill>
        <p:spPr>
          <a:xfrm>
            <a:off x="1295280" y="31240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2:05:32Z</dcterms:created>
  <dc:creator>HM</dc:creator>
  <dc:description/>
  <dc:language>en-US</dc:language>
  <cp:lastModifiedBy>Teacher</cp:lastModifiedBy>
  <dcterms:modified xsi:type="dcterms:W3CDTF">2009-10-08T15:58:38Z</dcterms:modified>
  <cp:revision>26</cp:revision>
  <dc:subject/>
  <dc:title>Step-up to Writing Essays</dc:title>
</cp:coreProperties>
</file>